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1FF-3FF0-45C5-B7A3-8057803F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2D9-E43D-4D49-AD2D-F4EAC3AC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F3F-709E-4972-A1D2-E65FD643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622-418A-4814-B169-07CB0C6E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350-4BB5-4240-A4AB-5E72C523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6F0-EA04-480C-9457-C1923C83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155-93AC-48E5-BB65-F23A33CA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3A0-F88B-4796-8B2D-E0A92104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F9C-DC53-4213-9FF4-2270AAFC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59B-B63F-4350-BC41-5BA978B7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5A1A-E517-4D2C-8708-F2D480ED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7DD-10AB-4A5E-973F-21C6A3CC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6BD79-5EA9-49ED-A4F9-8B5627ADFA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566720"/>
            <a:ext cx="868680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engus tehtud kiirülevaade erinevatest mitteklassikalistest loogikate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aal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uitsionist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a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ault loogika j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pisteemi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ud seonduvat: prograkeeled, sem veeb, konkreetsed loogikakee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.Tam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onkreetsed loogikakee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&amp; b =&gt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ksisteerib y . P(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ritused teha konkreetseid loogikakee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2+3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ili paised ja include jne, kuidas te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as ja kuidas teha xml synta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aalsed loogik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aalsed loogikad:  on voimalik &lt;&gt;, kindlasti 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(   hillary clinton on usa presiden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=&gt;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siniku aatom sisaldab yhte prooto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orge bush on usa presi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&gt; hillary clinton on usa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&gt; george bush on usa presi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]   p=&gt;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]    vesiniku aatom sisaldab yhte prooto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uitsionistlik loog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õe kysimus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latooniline tõde on (klassikaline loogika, matemaati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oreem T on lah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yritakse toestada T   (vedas, leidsime toestuse Tto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yritatakse toestada not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latoonilist tõde ei ole (konstruktivist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oesus on meie oma konstruktsioon, ise loome, ehitades toestusi. Ttoest konstrueerida: alles siis saame oelda, et T on to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i saa oelda, et suvalise P jaoks kehtib P v –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- - P)  = P       (( (A = &gt; B) =&gt; A) =&gt;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=&gt; A,  A &amp; B =&gt;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nstruktiivne matemaatika on laiem moiste kui intuitsionistlik loog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nstruktiivsus on mittedefineerit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=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uitsionismi na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 =&gt;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=&gt; A :   lambda x.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=&gt;A) =&gt; A :  lambda f .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=&gt; ((A=&gt;B) =&gt; B) : lambda x . Lambda f. f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 &amp; str =&gt; str:  lambda x. second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kpair(1,3)     first 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ikalisel pred arvutusel on domeen ja funkts ning predikaatide interpretatsioo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 on intuitsion toestatav =&gt; T on klassikaliselt o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neaarne loog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ding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llar lahed automaadi juur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ned dollari si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id kas koka voi f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ad valitud as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llarit enam ei 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 kehti:  A =&gt; A &amp;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 &amp; A =&gt; A &amp;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&amp; (A=&gt;B)  =&gt; B                                 A &amp; A &amp; .... &amp; A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ned ressursid on piirama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!Vesi &amp; tablett =&gt; !vesi &amp; j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himotteline jao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harilikud loogikad on sellise omaduseg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ui D =&gt; G, siis A &amp; D =&gt;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ault loogika, episteem. Loog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      :     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------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d(x)  :  ei saa jareldada -Lennuvoimeline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nuvoimeline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pisteemiline loog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kumise loog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dmiste loog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ub(jaan,”george bush on usa presid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ub(jaan,”arnold ryytel on eesti presid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(12, “eksisteerib y . C(y)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b(jaan,”george bush on usa presid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eab(jaan,”arnold ryytel on eesti presid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grakeelte seman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mbda-arvutuse pohi (kombinatoorne loogi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lumuutmise pohine seman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mantilise veebi seman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df ja xml namespaced, owl, jne j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aalutl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mebaasin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tsiaalsed kysimused (eristada asju yldkasutatavate nimedega, a la xml namespaced), kuidas asju uridega kodee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dused reeglisysteemid a la ekspertsysteem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gikapohised kaalutl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00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 Tammet</dc:creator>
  <dc:description/>
  <dc:language>en-US</dc:language>
  <cp:lastModifiedBy/>
  <cp:revision>0</cp:revision>
  <dc:subject/>
  <dc:title/>
</cp:coreProperties>
</file>